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1160" y="382104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288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744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336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4116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744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336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0341C-AEE4-48E2-BE14-4AB358A3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65EDE-AFBE-42F3-AE19-6F21BF1F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505FD-92FC-479A-A7C7-13A101EA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74B63-7483-46F1-8495-D80AFE43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28566-EB81-4989-ABE4-E9109A2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50520" y="152280"/>
            <a:ext cx="834084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135E0-4E49-4076-A71F-B41B3CE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D3BB4-2652-4212-BDBF-FE546D56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288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2E8D-FEC0-4B83-AD48-398CD632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214A5-2127-4BF1-9868-64F5BF11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1160" y="382104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72D04-9574-4C45-B23A-2EB34BC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288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BD48A-C450-4147-94E8-2996EB24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744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3360" y="163980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4116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744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3360" y="3821040"/>
            <a:ext cx="259596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1D62B-4629-43FB-909B-9944A08F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520" y="152280"/>
            <a:ext cx="834084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2880" y="382104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2880" y="1639800"/>
            <a:ext cx="393444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41160" y="3821040"/>
            <a:ext cx="8062920" cy="199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368080" y="6227640"/>
            <a:ext cx="446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E3J2 Data M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5562720"/>
            <a:ext cx="1143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4804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8604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unilogo1" descr=""/>
          <p:cNvPicPr/>
          <p:nvPr/>
        </p:nvPicPr>
        <p:blipFill>
          <a:blip r:embed="rId2"/>
          <a:stretch/>
        </p:blipFill>
        <p:spPr>
          <a:xfrm>
            <a:off x="7074000" y="5819760"/>
            <a:ext cx="177156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169920" y="5556240"/>
          <a:ext cx="107460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920" y="5556240"/>
                    <a:ext cx="107460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169920" y="6505560"/>
            <a:ext cx="104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78D2DA-90A5-4395-AE7B-7F02F799336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5239-D374-4D81-A741-0C350F53F683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66760" y="781200"/>
            <a:ext cx="610560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E3J2 Data Mining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cture 11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ans Clustering</a:t>
            </a:r>
            <a:br>
              <a:rPr sz="4400"/>
            </a:br>
            <a:br>
              <a:rPr sz="44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tin Russell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379520"/>
            <a:ext cx="431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means clustering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w define a new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entroi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|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| is the number of samples i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average value of the samples which were closest t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71720" y="2333520"/>
                <a:ext cx="22971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means cluster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w repeat the same process starting with the new centro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create a new set of centro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so on until the process conve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new set of centroids has smaller distortion than the previous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78080" y="2554200"/>
                <a:ext cx="3816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01840" y="3508200"/>
                <a:ext cx="3959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iti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4160" y="1396800"/>
            <a:ext cx="806292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outstanding problem is to choose the initial cluster se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ilitie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random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sing agglomerative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sing divisive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oic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be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eans clustering is a “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ll-climb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”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only finds 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c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minimum of the distor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local minimum is determined by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cal 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14400" y="4975200"/>
            <a:ext cx="633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827360" y="17352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000" y="197640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51000" y="498780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uster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49878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 ..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889600" y="3320640"/>
            <a:ext cx="0" cy="1654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841400" y="3321000"/>
            <a:ext cx="4035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3800" y="302580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Dis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105600" y="3697200"/>
            <a:ext cx="0" cy="127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08800" y="4181400"/>
            <a:ext cx="0" cy="781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828800" y="4168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43760" y="225900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Local minim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2151000"/>
            <a:ext cx="6238800" cy="2560680"/>
          </a:xfrm>
          <a:custGeom>
            <a:avLst/>
            <a:gdLst/>
            <a:ahLst/>
            <a:rect l="l" t="t" r="r" b="b"/>
            <a:pathLst>
              <a:path w="3930" h="1613">
                <a:moveTo>
                  <a:pt x="0" y="0"/>
                </a:moveTo>
                <a:cubicBezTo>
                  <a:pt x="80" y="407"/>
                  <a:pt x="160" y="815"/>
                  <a:pt x="246" y="1068"/>
                </a:cubicBezTo>
                <a:cubicBezTo>
                  <a:pt x="332" y="1321"/>
                  <a:pt x="417" y="1613"/>
                  <a:pt x="517" y="1516"/>
                </a:cubicBezTo>
                <a:cubicBezTo>
                  <a:pt x="617" y="1419"/>
                  <a:pt x="772" y="659"/>
                  <a:pt x="847" y="483"/>
                </a:cubicBezTo>
                <a:cubicBezTo>
                  <a:pt x="922" y="307"/>
                  <a:pt x="927" y="373"/>
                  <a:pt x="966" y="458"/>
                </a:cubicBezTo>
                <a:cubicBezTo>
                  <a:pt x="1005" y="543"/>
                  <a:pt x="1035" y="897"/>
                  <a:pt x="1084" y="991"/>
                </a:cubicBezTo>
                <a:cubicBezTo>
                  <a:pt x="1133" y="1085"/>
                  <a:pt x="1207" y="1083"/>
                  <a:pt x="1262" y="1025"/>
                </a:cubicBezTo>
                <a:cubicBezTo>
                  <a:pt x="1317" y="967"/>
                  <a:pt x="1354" y="709"/>
                  <a:pt x="1415" y="644"/>
                </a:cubicBezTo>
                <a:cubicBezTo>
                  <a:pt x="1476" y="579"/>
                  <a:pt x="1557" y="666"/>
                  <a:pt x="1626" y="636"/>
                </a:cubicBezTo>
                <a:cubicBezTo>
                  <a:pt x="1695" y="606"/>
                  <a:pt x="1775" y="386"/>
                  <a:pt x="1830" y="466"/>
                </a:cubicBezTo>
                <a:cubicBezTo>
                  <a:pt x="1885" y="546"/>
                  <a:pt x="1905" y="1083"/>
                  <a:pt x="1957" y="1118"/>
                </a:cubicBezTo>
                <a:cubicBezTo>
                  <a:pt x="2009" y="1153"/>
                  <a:pt x="2084" y="799"/>
                  <a:pt x="2143" y="678"/>
                </a:cubicBezTo>
                <a:cubicBezTo>
                  <a:pt x="2202" y="557"/>
                  <a:pt x="2220" y="342"/>
                  <a:pt x="2312" y="390"/>
                </a:cubicBezTo>
                <a:cubicBezTo>
                  <a:pt x="2404" y="438"/>
                  <a:pt x="2590" y="819"/>
                  <a:pt x="2694" y="966"/>
                </a:cubicBezTo>
                <a:cubicBezTo>
                  <a:pt x="2798" y="1113"/>
                  <a:pt x="2863" y="1295"/>
                  <a:pt x="2939" y="1271"/>
                </a:cubicBezTo>
                <a:cubicBezTo>
                  <a:pt x="3015" y="1247"/>
                  <a:pt x="3070" y="952"/>
                  <a:pt x="3151" y="822"/>
                </a:cubicBezTo>
                <a:cubicBezTo>
                  <a:pt x="3232" y="692"/>
                  <a:pt x="3292" y="512"/>
                  <a:pt x="3422" y="492"/>
                </a:cubicBezTo>
                <a:cubicBezTo>
                  <a:pt x="3552" y="472"/>
                  <a:pt x="3741" y="587"/>
                  <a:pt x="3930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94400" y="2716200"/>
            <a:ext cx="457200" cy="1452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464000"/>
            <a:ext cx="189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lobal minim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546200" y="4572000"/>
            <a:ext cx="1049400" cy="241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38200" y="5635800"/>
            <a:ext cx="56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Times New Roman"/>
              </a:rPr>
              <a:t>N.B: I’ve drawn the cluster set space as 1 dimensional for simplicity.  In reality it is a very high dimensional spa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81240" y="1009800"/>
          <a:ext cx="6153120" cy="52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009800"/>
                    <a:ext cx="6153120" cy="52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- disto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41320" y="1511280"/>
          <a:ext cx="7434360" cy="41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1511280"/>
                    <a:ext cx="743436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 programs on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agglom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lomerative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5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gglom dataFile centFile num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agglomerative clustering on the data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ataF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until the number of centroids is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umC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 Writes the centroid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coordinates to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ent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 programs on web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k-means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ns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85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k-means dataFile centFile op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s 10 iterations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means clustering on the data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ataF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ing with the centroids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entFi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each iteration writes distortion and new centroids to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op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sa1.t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the data file that I have used in the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ed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explain the fo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understand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ustering so f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lomerative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gin by assuming that every data point is a separate cent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bine closest centroids until the desired number of clusters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gglom.c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 the course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visive clus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gin by assuming that there is just one centroid/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lit clusters until the desired number of clusters is rea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ither agglomerative clustering nor divisive clustering is opt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the set of centroids which they give is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guaranteed to minimise dist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timality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gglomerative clustering, a dense cluster of data points will be combined into a single centr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o minimise distortion, need several centroids in a region where there are many data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ngle ‘outlier’ may get its own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lomerative clustering provides a useful starting point, but further refinement i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100160" y="581040"/>
            <a:ext cx="6581880" cy="5410080"/>
            <a:chOff x="1100160" y="581040"/>
            <a:chExt cx="6581880" cy="5410080"/>
          </a:xfrm>
        </p:grpSpPr>
        <p:graphicFrame>
          <p:nvGraphicFramePr>
            <p:cNvPr id="101" name=""/>
            <p:cNvGraphicFramePr/>
            <p:nvPr/>
          </p:nvGraphicFramePr>
          <p:xfrm>
            <a:off x="1100160" y="581040"/>
            <a:ext cx="6529320" cy="5410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00160" y="581040"/>
                      <a:ext cx="652932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1104840" y="614520"/>
            <a:ext cx="6577200" cy="5310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04840" y="614520"/>
                      <a:ext cx="6577200" cy="531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5" name=""/>
          <p:cNvSpPr/>
          <p:nvPr/>
        </p:nvSpPr>
        <p:spPr>
          <a:xfrm>
            <a:off x="1657440" y="257040"/>
            <a:ext cx="59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2 centroi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ans Clus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se that we  have decided how many centroids we need - denote this number by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se that we have an initial estimate of suitable positions for ou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ent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 is an iterative procedure for moving these centroids to reduce disto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ans clustering -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39560" y="1639800"/>
            <a:ext cx="826488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se there ar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data points, deno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se that the initial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lusters are denot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e iteration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means clustering will produce a new set of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38480" y="3024360"/>
                <a:ext cx="3924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308320" y="2103480"/>
                <a:ext cx="34243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311560" y="4425840"/>
                <a:ext cx="3816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530440" y="5330880"/>
                <a:ext cx="32907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520" y="152280"/>
            <a:ext cx="834084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-means clustering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41160" y="1639800"/>
            <a:ext cx="8062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data poin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e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osest centr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: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 = min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w, for each centroi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85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other words,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e set of data points which are closer t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an any other clu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11320" y="3454560"/>
                <a:ext cx="27306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3T11:44:37Z</dcterms:created>
  <dc:creator>Martin Russell</dc:creator>
  <dc:description/>
  <dc:language>en-US</dc:language>
  <cp:lastModifiedBy>russelmj</cp:lastModifiedBy>
  <cp:lastPrinted>2002-02-11T22:35:53Z</cp:lastPrinted>
  <dcterms:modified xsi:type="dcterms:W3CDTF">2004-02-27T09:57:14Z</dcterms:modified>
  <cp:revision>0</cp:revision>
  <dc:subject/>
  <dc:title>Introduction to EEM4R</dc:title>
</cp:coreProperties>
</file>